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alorienaufnahm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verbrauch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iposita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6760" y="5493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diposita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aufnahm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aloriengehalt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utter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3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8" name=""/>
          <p:cNvCxnSpPr>
            <a:stCxn id="105" idx="3"/>
            <a:endCxn id="10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968400" y="54936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diposita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lorienaufnahm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lyphag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ppetitstimulant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sych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Fre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endCxn id="11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5" name=""/>
          <p:cNvCxnSpPr>
            <a:endCxn id="11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835560" y="549360"/>
            <a:ext cx="52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diposita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Kalorienaufnahme ↑ &gt; Polyphag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lyphag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ppetitstimulant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11960" y="54936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diposita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aufnahme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lyphag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ppetitstimulanti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9" idx="3"/>
            <a:endCxn id="12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Diazepa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Phenobarbita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sych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5920" y="549360"/>
            <a:ext cx="78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diposita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Kalorienaufnahme ↑ &gt; Polyphagie &gt; psychogener Fre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3"/>
            <a:endCxn id="12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utternei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ein physiolog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ättigungsgefüh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gehalt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tter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0640" y="549360"/>
            <a:ext cx="63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diposita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aufnahme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Kaloriengehalt im Futter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3"/>
            <a:endCxn id="13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alsche Angaben auf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utterverpackung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zu vie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ckerl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verbrauch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96040" y="549360"/>
            <a:ext cx="36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diposita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Kalorienverbrauch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ewegungsmange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othyre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Zustand nach Kastra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09:30:47Z</dcterms:modified>
  <cp:revision>330</cp:revision>
  <dc:subject/>
  <dc:title>Vorstellung einer Neuheit</dc:title>
</cp:coreProperties>
</file>